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0A6C-E12B-4502-B2AA-556A98740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apter Fiv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vestigating Child Abus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62160" y="7086240"/>
            <a:ext cx="4012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mily Ab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kind of abduction is parental child ab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mily abdu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taking, keeping, or concealing of a child or children by a parent, other family member, or person acting on behalf of the parent or family member, that deprives another individual of his or her custody or visitation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ity of kidnappings are family kidnapp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abduction is a serious problem both in scope and its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issing Children’s Assistance Act, 1984 as Title IV of the Juvenile Justice and Delinquency Prevention Ac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18288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ress mandated a national response to the problem of missing and exploited children to be coordinated by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fice of Juvenile Justice and Delinquency Preven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JJDP) along with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tional Center for Missing and Exploi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National Center for Prosecution of 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jor source of information on parental kidnap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stimated 262,000 children are abducted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80 percent are kidnapped by a parent or family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unchausen by Prox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involves both physical abuse and medical neglect against a chi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ffender suffers from a psychological maltreatment categorized as factitious disorders.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SM IV-T-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is characterized by repeated unnecessary medical tests and procedures, which are demanded by a caretaker and cause physical injury to the chi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methods of fabricating illness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ing, poisoning either with drugs or other substances, suffocation, specimen tampering, chart  falsification, injection of urine or fecal matter into the child, laxatives, excessive med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estimated 9 to 31 percent of victims die as a result of the ab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ely 98 percent of the perpetrators are wom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ctims equally divided male and female childr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haken Baby Syndrom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99036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term used to describe the violent shaking of a child and injuries that can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latively new classification of death or injury to infants, and the number of child victims is uncer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to 12 percent of all deaths due to abuse and neglect are attributable to the shaken baby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r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at the highest risk because their neck muscles are underdeveloped and their brain tissue is frag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1,000 to 3,000 children are diagnosed every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100 to 120 them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effects: learning and physical, visual, and speech disabil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Death Due to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buse is the most common cause of death to children committed by their own pa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ildren are under the age of four die from child abuse and neglect than from automobile accidents, falls, fires, drowning, suffocation, and choking o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onger is child abuse considered a family aff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stimated 1,530 children die of child abuse and neglect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ged three and younger are the most frequent victi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fferent Types of Child/Family death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icide: felonious destruction of a fe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tricide: killing of a brother or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icide : killing of children by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rpetrators are in their mid-2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wo-adult families, with mal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many as 50 percent are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Death Review Tea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four children per day die as the result of abuse and neglect in the 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shows that as many as 50 percent of child deaths listed as “undetermined” or “accidents” are actually caused by child ab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death review teams have been formed to address the concern that child abuse fatalities were not properly investig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teams include: pediatrician, medical examiner, prosecuting attorney, social worker, mental health professional, police officer, nurse, educator, and param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xual Abuse 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controversy, was the fastest growing form of reported child abuse at on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abuse is an issue of power and control, not love and intim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ed now less of a concern than physical ab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school age children are being victimized more frequently than 20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78,000 cases sustained in 20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s more likely than boys to be sexually ab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s 12- 15 year olds in the most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procedures for validating an episode make it very difficulty for pros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orms of Sexual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exual assault on a child is any forced, exploitive, or coercive sexual contact or experience with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tes vary widely, three elements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gnificant older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 who engaged in sexu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involving someone who is legally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orms of Sexual Assaul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2949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yeu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hibitio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 prostit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2189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agencies can become involved in cases where abuse of neglect of a child is susp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services agencies investigate in order to provide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e officers also conduct investigations on suspected abuse and neglect against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e must determine if probable cause ex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a crime has been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offender for possible pros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ymptoms of Sexual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s of sexual abuse have declined in recent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evelop behavior changes such as sexual acting out; excessive masturbation, and unusual interest in or avoidance of all things sex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evelop sleep problems or nightma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, aggressiveness, suicidal behavior, refusing school, and head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sive reactions to particular foods, soreness in the gen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take Indic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xual Abuse Typolog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agement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ion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ression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xual abuse accommodation syndr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c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lessn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pment and accommod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, conflicted and unconvincing disclosur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Role of Police in Child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controver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police units developed by the 1970’s to investigate and prosecute physical and sexual abuse to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disciplinary teams and interagency cooperation between police and child protective agencies is the current tr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viewing childr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are afforded wide discretion in modify trial practices to accommodate the special needs of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competency and credibility are of conce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et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eans that a person is fit to stand trial and to take the o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 to whether or not the child witness can be belie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taping Child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nsic Intervie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 critical steps for child abuse and neglect investigation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371600"/>
            <a:ext cx="834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sourc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information about the inj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uct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ecords and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prior reports on ab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medical records from doctor, clinic, or hos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 all persons who had access to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interview the caretakers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uct thorough investigation of the sc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ren with Disabilit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with disabilities are at a significant increased risk for neglect and abuse of all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tudy found that hospitalized children with disabilities were twice as prevalent among maltreatment than those without dis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with more than one disability were at even higher risk of physical and sexual ab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hildren are abused and neglected at a rate of three times that of children who do not have disabil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 to Physical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prosecution of physical abuse is more common than the prosecution of emotional mal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 between accident and intentional harm can be blurry, evidence becomes extremely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agency and or interdisciplinary team approach is helpful in gathering information from various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legation of abuse in not confirmation that a child has been victim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ge Dating of Bruises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455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volves noting the color of bruising present and documenting this in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one determine the age of a bru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right 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0 to 2 days old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e0"/>
                </a:solidFill>
                <a:latin typeface="Times New Roman"/>
              </a:rPr>
              <a:t>Bluish or Pur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2 to 5 day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re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 to 7 day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7 to 10 day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Brow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 to 14 day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vidence after 2 to 4 wee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attern Inju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household items are frequently used as weapons against children in abusive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brushes, flyswatters, hangers, belts, and baseball b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dangerous weapon remains the h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for patterns on the locations that have been identified as suspic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ise patterns on the child may help to identify and retrieve the weapon as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juries to the Head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nts rarely suffer head injuries that are an acci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intentional injur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orrhaging beneath the sca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nal hemorrhage, shaken baby syndro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ury from multiple slapping or hit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plash (without automobile acciden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bruise to the 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liflower” 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lack or swollen ey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ur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tional burn injuries often go unnoti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will suffer a significant burn in less time than an ad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approximately 10 percent of child abuse cases and 10 percent of hospital admissions of children to burn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ng a child under 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icting cigarette or lighter b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ing/holding on a heating or electric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ing child in oven or micro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5:25:35Z</dcterms:modified>
  <cp:revision>66</cp:revision>
  <dc:subject/>
  <dc:title>Slide 1</dc:title>
</cp:coreProperties>
</file>